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EF2-4D37-41DB-9F31-2DAC5F4D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E09-58FA-4BCE-9C17-AECF0B56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92D-37C8-4FAE-840D-59AFA2DE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4F3-22BF-40CF-A3BD-50D0E956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FD2-0612-42C0-80B6-48A069A1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6D7-A7D1-47D9-BE06-FA2211B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97AB-4C10-426A-A9AE-0F8A8251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3DF-411C-4DCD-AB27-216D0D26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953-B1A4-45FD-BA20-CDCDE8B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FC8-87EA-48A5-9C1F-9378A8FE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7A8E-450C-46CE-B31D-5181A0CF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64E-E3E1-4430-9E44-81DDCF4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453-820C-499F-8CD0-948F406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B2B8-9D2F-491A-959C-6A3E4274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FBE-A949-4F85-BDA3-A747E2A0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3F00-3296-4599-8FAC-FD2A6FAD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2CED-C752-4B7A-9D86-381AA88B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B0AE-8C88-4D7A-B63A-3737486C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EA1F-9BA8-43ED-A21A-5695F94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6F53-292D-4927-AB24-8A88ACD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F9A7-5336-4A00-868D-1F214DB4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59CA-F275-440A-965C-8DFBCF2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314-67B3-4F3E-B9A9-A6E83D4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4A89-19B5-45A7-BF9F-722EFFD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8503-FFA5-4895-A9A5-017730B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E728-F68B-4503-8B6C-D46E904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4AC8-0593-404C-A914-E48FB09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91E3-B4C0-46B2-8E8C-B7D6542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F666-013C-4478-833F-C2A0EC65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6F82-0013-4161-B008-DE9EF42C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BDD7-EE87-4F9B-A8E9-E0CB9F29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86A9-5688-45CD-B7AF-9587A43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D81E-9BF5-4E85-9D9D-5053D91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E4E-F7FA-41E7-B595-5C56FA5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350C-1957-4F9E-AC51-3B605C9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62CB-F888-4ED1-909F-6505C23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2930-DC44-4BB3-A270-FD17651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664A-F765-4FB8-8E2D-CC19C4E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3007-9998-4446-9DC3-BA14FEE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19BA-E735-4680-AD50-632C519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9388-857F-42E3-859F-4BA3423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1EA4-0B1D-4F3E-BD47-5F75B336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842F-CDD9-4301-9AB9-A5A58544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BEF5-B5AF-4062-B1F6-6BABC543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934-57C6-43EC-A1B4-86F47B2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D45A-C84D-47E5-85E6-AEEA0CB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AB48-0AEE-40D6-B44C-EAB3B15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7D46-86EF-49E2-9C6E-F8AE530B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C3E7-DABF-467A-ABAE-24A8BBD2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1810-63B8-4D57-822F-A4E60B8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F11A-0036-4C12-8A97-FA72857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B2DA-6029-4CA0-BB25-02DAE7C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CD5E-B51F-4BEA-9626-7988B4D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CD69-2657-4B15-85C2-98569FE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BE3C-718C-4CBD-B69C-65DBB32A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D52-7A2B-48F1-9A28-D5E3741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306A-7E63-48D6-B62E-72EE55E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231D-0BAB-4B5D-ACFE-CACB95B5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6A09-837D-450E-BE78-2E9BFE3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EA29-A7E0-419E-8108-102C32C0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B488A-7E1B-4AF5-9AAA-439C55E2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2908-71B8-4CA0-AD9A-C47DD28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418F-16ED-4BDE-AE5B-536591D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15EF-B3D4-49E4-9105-048227D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E0FE-4DA6-4C89-8496-BBA3239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6254-40C6-4BE8-987F-E27C0DC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DF9-4032-4D65-B370-613850D0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BC16-BAEA-4BAC-892E-3B26741B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34AC-8DC4-4A4E-A52D-53BF4F14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B1B9-9711-453F-B8EF-13BFDBD6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EBE-CD0A-4626-9AA7-3CD61B6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DE1-F5E6-4898-B6DC-ADC4955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8B2-6DE1-4193-8D58-30F2B75ECC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B799-B2A6-40D6-AF75-0B25FF4330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939-7B5F-4AD3-A6EA-31EB2DDD73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DE73-5EC1-43BD-BD6F-A77F2CA8C2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EF1-A37D-4BE5-B990-284B4AF82C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986-63F0-4613-93E3-16E27DD79D2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рок русского языка в 7 класс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295280" y="129528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авописание производных пред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 или И? Кто быстрее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8080" y="2742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В течени… дня заросли неузнаваемо изменилис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Ошибки допущены вследстви… невнима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 продолжени… романа появятся новые геро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Мели постоянно попадались в течени… ре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. Шорох и шёпот слышались в продолжени… ча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 flipH="1">
            <a:off x="1175760" y="701028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143000" y="1295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на листке рядом с номером предложения вставленную букв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 или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тавьте буквы, выпишите их, прочитайте получившееся слово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1295280"/>
            <a:ext cx="368784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тем…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тт…с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негр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…ик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лон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…ссаж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…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…нве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ар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…ьб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…з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стоятельная раб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9072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)пере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онны, об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)кр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ника, спешить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)встреч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и, пройти (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)з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щего трамвая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т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(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)смотря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асность, перевести деньг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анке, поговорить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счё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аменов; (не) смотря на доску, решил задачу;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ереездом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годы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в) продол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на)под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игаться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пере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лонны, об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вокру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амятника, спешить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навстреч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асности, пройти </a:t>
            </a: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позад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оящего трамвая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теч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пасность, перевести деньги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 счё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банке, поговорить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счёт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кзаменов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е смотря 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ку, решил задачу;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вязи 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ереездом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погоды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продол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года, 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наподоб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вет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3124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1600" y="95400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м правописание наре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ойте скобки, вставьт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914400" y="2325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)век, (на)отмаш…, точь(в)точь, бок(о)бок, (в)ручную, (по)ребячески, (во)первых, (по)нашему, (ото)всюду,  (не)жданно, (не)однократно, (не)правдиво, а лжи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уть (не)интересно, снов…, досрочн…, навзнич…, замуж…, (мало)помалу. (еле)еле, (не)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им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1828440"/>
            <a:ext cx="8183520" cy="39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век, наотмашь, точь - в -точь, бок о бок, вручную, по-ребячески, во-первы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-нашему, отовсюду,  нежданно, неоднократно, не правдиво, а лживо,  ничуть не интересно, снова, досрочно, навзничь, замуж, мало-помалу,  еле -еле, не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rganization Chart 7"/>
          <p:cNvGrpSpPr/>
          <p:nvPr/>
        </p:nvGrpSpPr>
        <p:grpSpPr>
          <a:xfrm>
            <a:off x="755640" y="549360"/>
            <a:ext cx="7776000" cy="5902920"/>
            <a:chOff x="755640" y="549360"/>
            <a:chExt cx="7776000" cy="5902920"/>
          </a:xfrm>
        </p:grpSpPr>
        <p:cxnSp>
          <p:nvCxnSpPr>
            <p:cNvPr id="273" name="_s1028"/>
            <p:cNvCxnSpPr>
              <a:stCxn id="274" idx="0"/>
              <a:endCxn id="275" idx="2"/>
            </p:cNvCxnSpPr>
            <p:nvPr/>
          </p:nvCxnSpPr>
          <p:spPr>
            <a:xfrm flipV="1">
              <a:off x="686520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V="1">
              <a:off x="2421360" y="4237920"/>
              <a:ext cx="3960" cy="73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1"/>
              <a:endCxn id="280" idx="2"/>
            </p:cNvCxnSpPr>
            <p:nvPr/>
          </p:nvCxnSpPr>
          <p:spPr>
            <a:xfrm rot="10800000">
              <a:off x="464292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78" idx="3"/>
              <a:endCxn id="280" idx="2"/>
            </p:cNvCxnSpPr>
            <p:nvPr/>
          </p:nvCxnSpPr>
          <p:spPr>
            <a:xfrm flipV="1">
              <a:off x="4088160" y="2024280"/>
              <a:ext cx="555840" cy="14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0" name="_s1032"/>
            <p:cNvSpPr/>
            <p:nvPr/>
          </p:nvSpPr>
          <p:spPr>
            <a:xfrm>
              <a:off x="2977200" y="54936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о происхождению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предлоги бываю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75564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не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5199120" y="276300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cc"/>
                  </a:solidFill>
                  <a:latin typeface="Arial"/>
                </a:rPr>
                <a:t>производны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5"/>
            <p:cNvSpPr/>
            <p:nvPr/>
          </p:nvSpPr>
          <p:spPr>
            <a:xfrm>
              <a:off x="75564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d09d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В, на, за, из-за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-под, по-над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из, под, у, от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>
              <a:off x="5199120" y="4976640"/>
              <a:ext cx="3332520" cy="14756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Ввиду, вследстви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австречу,вроде,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>
                  <a:solidFill>
                    <a:srgbClr val="000000"/>
                  </a:solidFill>
                  <a:latin typeface="Arial"/>
                </a:rPr>
                <a:t>несмотря на и т.д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5684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авописание производных предлогов.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990720" y="1295280"/>
          <a:ext cx="7619760" cy="42595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следствие(=по причи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роде        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подобие (=подоб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место(=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асчет(=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виду(=из-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Несмотря на(=вопрек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течение               (=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продол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целях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 стороны  (=о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 причине   (=дл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В заключение(=в итог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514600" y="53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с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430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благод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380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хорошей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м успе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беди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вы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2428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следствие, из-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105520" y="50292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724280" y="22860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лохой по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… </a:t>
            </a: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спортивных неу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отерпел пораж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ahoma"/>
              </a:rPr>
              <a:t>проиграл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личайте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ча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ся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ься вследствие непог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хать в продолжение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ь насчет пох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йти вмест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петь ввиду опоз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, несмотря на труд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оты в течении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едствии по делу о кра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йте в продолжении ром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 на счет в ба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ть в место сбора отряд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йте это в в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мотря на прохож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Е или И? Если вставили Е, выпишите первое слово из предложения, если И- второе. Прочитайте получившееся предложение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62120" y="198108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ужно идти в течени… цел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вороты следует искать в течени… р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отыскать ошибки в следстви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товый флажок отяжелел вследстви…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фр меняют в продолжени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57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те себ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2514240"/>
            <a:ext cx="8183520" cy="220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вас должно получиться предлож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Вам следует отыскать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         </a:t>
            </a:r>
            <a:r>
              <a:rPr b="0" lang="ru-RU" sz="4000" spc="-1" strike="noStrike">
                <a:solidFill>
                  <a:srgbClr val="a50021"/>
                </a:solidFill>
                <a:latin typeface="Verdana"/>
              </a:rPr>
              <a:t>стартовый шифр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7</cp:lastModifiedBy>
  <dcterms:modified xsi:type="dcterms:W3CDTF">2013-05-07T02:24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